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586-796F-4D32-B1B5-4CC1BAA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C71-9048-4BBB-A5EC-28201643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1BB-5427-45A9-BC4F-448499D9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306-5EAB-4579-96D9-5FDFA53C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B1C-9591-439D-AE91-8958021D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2D1-D294-426F-B10F-3C32A587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348-0343-40BD-9C99-114F4145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2A8-4A8E-41BD-99BB-B109C0F6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D5C-C10F-487F-BEB8-86AF63A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ECD-54D6-4CCE-8562-2BE337D2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BC3-B22A-43D7-9E0B-6623C703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94B-F2DA-443A-B072-B703BC8E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C2C-A849-4DAF-A184-A6D971E8C3F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8 Vstaň, ľud Boží, vsta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ov je b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staň, ľud Boží, vstaň, ísť vpred velí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staň a neváh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o práce sa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tít viery, meč Ducha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Pánom sa sp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ov je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vedi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obzeraj sa spä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š vznešený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 je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 neho vždy môžeš ná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ých síl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ov je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z, že v zápaso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ždy s tebou tvoj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odlitby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i odpovie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a útoky odraz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í sa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41:48Z</dcterms:modified>
  <cp:revision>20</cp:revision>
  <dc:subject/>
  <dc:title>Je veľký náš Pán, on slávy je Kráľ Nech do všetkých strán  spev vrúcnych znie chvál.</dc:title>
</cp:coreProperties>
</file>